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0BC-F9E6-47EF-B4F9-BB9FADD8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3E9B-031F-48D7-AEAE-69758F8B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801E-7B5B-467D-96B0-9EE7CBC5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264-B7F6-405D-BE57-4370A80D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8E8-4F86-49F0-9246-9ABAA597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E64-D33B-4200-A3E7-B8129EB9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7F0-DE04-4869-BEED-F87ED1D0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F11-8A6A-43E0-8130-51AF7170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BE3E-3D14-4D93-AAFA-2DB8D6CF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DD5-623F-4A7C-80F1-D9E2285D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7C1-CF59-4AC6-805D-E2FDC7FE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1170-2B72-4307-9FB3-C0CF8F1A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9806-D077-4FA8-82C9-83B6FE544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3320" y="690480"/>
            <a:ext cx="767736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52560" y="757080"/>
            <a:ext cx="723888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3400" y="1514520"/>
            <a:ext cx="74772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001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14320" y="619200"/>
            <a:ext cx="75153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47640" y="533520"/>
            <a:ext cx="78487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4240" y="995400"/>
            <a:ext cx="77155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3240" y="766800"/>
            <a:ext cx="787752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068480"/>
            <a:ext cx="8991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21:23:43Z</dcterms:created>
  <dc:creator>ASD</dc:creator>
  <dc:description/>
  <dc:language>en-US</dc:language>
  <cp:lastModifiedBy>ASD</cp:lastModifiedBy>
  <dcterms:modified xsi:type="dcterms:W3CDTF">2010-06-29T21:24:03Z</dcterms:modified>
  <cp:revision>1</cp:revision>
  <dc:subject/>
  <dc:title>Slide 1</dc:title>
</cp:coreProperties>
</file>